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3362-442F-4E26-B00E-D6D43AA27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7626-68D5-4444-BEB0-59FCC713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A253-E4FA-478C-B58D-C04B9052D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D41D-9D2C-4DED-A672-A11491D23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5CBB-3991-4DF3-8F6D-4A874A86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7C9A-5B6B-4F1A-880E-738A6544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51A2-E47A-4D2E-BF05-9FDB64D2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75F0-717A-40AD-BF82-8C97E86B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6575-E7C2-447B-8EE1-84263667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4C99-A3C6-48A8-A490-FD7D3CA1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13FA-0D19-44C9-90D9-3BD6D75D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85BD-F2DE-4286-B621-C9A0C7B9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195E-53A1-4835-A568-D8AB9652D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F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691800" y="3570120"/>
            <a:ext cx="1056600" cy="1099080"/>
            <a:chOff x="3691800" y="3570120"/>
            <a:chExt cx="1056600" cy="1099080"/>
          </a:xfrm>
        </p:grpSpPr>
        <p:sp>
          <p:nvSpPr>
            <p:cNvPr id="43" name=""/>
            <p:cNvSpPr/>
            <p:nvPr/>
          </p:nvSpPr>
          <p:spPr>
            <a:xfrm>
              <a:off x="4151520" y="3570120"/>
              <a:ext cx="129960" cy="109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" name=""/>
            <p:cNvCxnSpPr/>
            <p:nvPr/>
          </p:nvCxnSpPr>
          <p:spPr>
            <a:xfrm flipH="1">
              <a:off x="3691800" y="3832200"/>
              <a:ext cx="459720" cy="227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5" name=""/>
            <p:cNvCxnSpPr/>
            <p:nvPr/>
          </p:nvCxnSpPr>
          <p:spPr>
            <a:xfrm flipH="1" flipV="1">
              <a:off x="4281120" y="3844800"/>
              <a:ext cx="466920" cy="214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6" name=""/>
            <p:cNvCxnSpPr/>
            <p:nvPr/>
          </p:nvCxnSpPr>
          <p:spPr>
            <a:xfrm flipH="1" flipV="1">
              <a:off x="4281120" y="3953520"/>
              <a:ext cx="46692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" name=""/>
            <p:cNvCxnSpPr/>
            <p:nvPr/>
          </p:nvCxnSpPr>
          <p:spPr>
            <a:xfrm flipH="1" flipV="1">
              <a:off x="4281120" y="4070880"/>
              <a:ext cx="466920" cy="214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8" name=""/>
            <p:cNvCxnSpPr/>
            <p:nvPr/>
          </p:nvCxnSpPr>
          <p:spPr>
            <a:xfrm flipH="1" flipV="1">
              <a:off x="4281120" y="4168440"/>
              <a:ext cx="466920" cy="214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9" name=""/>
            <p:cNvCxnSpPr/>
            <p:nvPr/>
          </p:nvCxnSpPr>
          <p:spPr>
            <a:xfrm flipH="1" flipV="1">
              <a:off x="4281120" y="4284720"/>
              <a:ext cx="466920" cy="214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0" name=""/>
            <p:cNvCxnSpPr/>
            <p:nvPr/>
          </p:nvCxnSpPr>
          <p:spPr>
            <a:xfrm flipH="1">
              <a:off x="3691800" y="3941640"/>
              <a:ext cx="459720" cy="227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" name=""/>
            <p:cNvCxnSpPr/>
            <p:nvPr/>
          </p:nvCxnSpPr>
          <p:spPr>
            <a:xfrm flipH="1">
              <a:off x="3691800" y="4058280"/>
              <a:ext cx="459720" cy="227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" name=""/>
            <p:cNvCxnSpPr/>
            <p:nvPr/>
          </p:nvCxnSpPr>
          <p:spPr>
            <a:xfrm flipH="1">
              <a:off x="3692520" y="4168800"/>
              <a:ext cx="459720" cy="227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3" name=""/>
            <p:cNvCxnSpPr/>
            <p:nvPr/>
          </p:nvCxnSpPr>
          <p:spPr>
            <a:xfrm flipH="1">
              <a:off x="3692520" y="4285080"/>
              <a:ext cx="459720" cy="227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" name=""/>
            <p:cNvCxnSpPr/>
            <p:nvPr/>
          </p:nvCxnSpPr>
          <p:spPr>
            <a:xfrm>
              <a:off x="3693240" y="4668480"/>
              <a:ext cx="1055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" name=""/>
            <p:cNvCxnSpPr/>
            <p:nvPr/>
          </p:nvCxnSpPr>
          <p:spPr>
            <a:xfrm>
              <a:off x="3692520" y="4057920"/>
              <a:ext cx="1440" cy="610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6" name=""/>
            <p:cNvCxnSpPr/>
            <p:nvPr/>
          </p:nvCxnSpPr>
          <p:spPr>
            <a:xfrm>
              <a:off x="4747320" y="4057920"/>
              <a:ext cx="1440" cy="610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57" name=""/>
          <p:cNvSpPr/>
          <p:nvPr/>
        </p:nvSpPr>
        <p:spPr>
          <a:xfrm>
            <a:off x="6540480" y="29718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48360" y="3781440"/>
            <a:ext cx="866880" cy="120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endCxn id="58" idx="1"/>
          </p:cNvCxnSpPr>
          <p:nvPr/>
        </p:nvCxnSpPr>
        <p:spPr>
          <a:xfrm>
            <a:off x="4419720" y="3733560"/>
            <a:ext cx="1629000" cy="649800"/>
          </a:xfrm>
          <a:prstGeom prst="bentConnector3">
            <a:avLst>
              <a:gd name="adj1" fmla="val 4290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H="1" flipV="1" rot="5400000">
            <a:off x="7075080" y="2639520"/>
            <a:ext cx="548640" cy="1735920"/>
          </a:xfrm>
          <a:prstGeom prst="bentConnector3">
            <a:avLst>
              <a:gd name="adj1" fmla="val 7110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8" idx="2"/>
          </p:cNvCxnSpPr>
          <p:nvPr/>
        </p:nvCxnSpPr>
        <p:spPr>
          <a:xfrm flipH="1" rot="16200000">
            <a:off x="7185240" y="4281120"/>
            <a:ext cx="329040" cy="1735920"/>
          </a:xfrm>
          <a:prstGeom prst="bentConnector3">
            <a:avLst>
              <a:gd name="adj1" fmla="val 8521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6048360" y="4110120"/>
            <a:ext cx="866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K1 Settling T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0" y="5029200"/>
            <a:ext cx="86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10080" y="4229280"/>
            <a:ext cx="325440" cy="328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733920" y="4723560"/>
            <a:ext cx="976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 Cross Flow Filt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000240" y="2602080"/>
            <a:ext cx="260640" cy="261720"/>
            <a:chOff x="3000240" y="2602080"/>
            <a:chExt cx="260640" cy="261720"/>
          </a:xfrm>
        </p:grpSpPr>
        <p:sp>
          <p:nvSpPr>
            <p:cNvPr id="67" name=""/>
            <p:cNvSpPr/>
            <p:nvPr/>
          </p:nvSpPr>
          <p:spPr>
            <a:xfrm>
              <a:off x="3000240" y="2602080"/>
              <a:ext cx="260640" cy="26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5400000">
              <a:off x="3048120" y="2640240"/>
              <a:ext cx="222480" cy="18180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 flipV="1">
            <a:off x="1752480" y="2736720"/>
            <a:ext cx="1247760" cy="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2362320"/>
            <a:ext cx="249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71800" y="2362320"/>
            <a:ext cx="86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8" idx="0"/>
            <a:endCxn id="43" idx="0"/>
          </p:cNvCxnSpPr>
          <p:nvPr/>
        </p:nvCxnSpPr>
        <p:spPr>
          <a:xfrm>
            <a:off x="3250440" y="2735640"/>
            <a:ext cx="966240" cy="8348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 flipH="1">
            <a:off x="2628720" y="37339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80040" y="37339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3556080"/>
            <a:ext cx="325440" cy="328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2590920"/>
            <a:ext cx="304560" cy="3045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480440" y="3073320"/>
            <a:ext cx="30456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467480" y="5156280"/>
            <a:ext cx="304920" cy="3045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219320" y="2322360"/>
            <a:ext cx="102708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19320" y="2590920"/>
            <a:ext cx="102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K2 Mixing T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17880" y="1459080"/>
            <a:ext cx="102708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81" idx="1"/>
            <a:endCxn id="79" idx="0"/>
          </p:cNvCxnSpPr>
          <p:nvPr/>
        </p:nvCxnSpPr>
        <p:spPr>
          <a:xfrm flipV="1" rot="10800000">
            <a:off x="1732680" y="2034720"/>
            <a:ext cx="1285200" cy="288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3124080" y="1828800"/>
            <a:ext cx="1027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K3 Hexane sto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104800" y="4572000"/>
            <a:ext cx="1249920" cy="1445040"/>
            <a:chOff x="5104800" y="4572000"/>
            <a:chExt cx="1249920" cy="1445040"/>
          </a:xfrm>
        </p:grpSpPr>
        <p:sp>
          <p:nvSpPr>
            <p:cNvPr id="85" name=""/>
            <p:cNvSpPr/>
            <p:nvPr/>
          </p:nvSpPr>
          <p:spPr>
            <a:xfrm>
              <a:off x="5648760" y="4572000"/>
              <a:ext cx="153720" cy="144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" name=""/>
            <p:cNvCxnSpPr/>
            <p:nvPr/>
          </p:nvCxnSpPr>
          <p:spPr>
            <a:xfrm flipH="1">
              <a:off x="5104800" y="4916880"/>
              <a:ext cx="543960" cy="29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7" name=""/>
            <p:cNvCxnSpPr/>
            <p:nvPr/>
          </p:nvCxnSpPr>
          <p:spPr>
            <a:xfrm flipH="1" flipV="1">
              <a:off x="5802120" y="4933080"/>
              <a:ext cx="552600" cy="281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" name=""/>
            <p:cNvCxnSpPr/>
            <p:nvPr/>
          </p:nvCxnSpPr>
          <p:spPr>
            <a:xfrm flipH="1" flipV="1">
              <a:off x="5802120" y="5077080"/>
              <a:ext cx="552600" cy="282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" name=""/>
            <p:cNvCxnSpPr/>
            <p:nvPr/>
          </p:nvCxnSpPr>
          <p:spPr>
            <a:xfrm flipH="1" flipV="1">
              <a:off x="5802120" y="5230080"/>
              <a:ext cx="552600" cy="281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" name=""/>
            <p:cNvCxnSpPr/>
            <p:nvPr/>
          </p:nvCxnSpPr>
          <p:spPr>
            <a:xfrm flipH="1" flipV="1">
              <a:off x="5802120" y="5358240"/>
              <a:ext cx="552600" cy="281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" name=""/>
            <p:cNvCxnSpPr/>
            <p:nvPr/>
          </p:nvCxnSpPr>
          <p:spPr>
            <a:xfrm flipH="1" flipV="1">
              <a:off x="5802120" y="5511600"/>
              <a:ext cx="552600" cy="281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" name=""/>
            <p:cNvCxnSpPr/>
            <p:nvPr/>
          </p:nvCxnSpPr>
          <p:spPr>
            <a:xfrm flipH="1">
              <a:off x="5104800" y="5060880"/>
              <a:ext cx="543960" cy="29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" name=""/>
            <p:cNvCxnSpPr/>
            <p:nvPr/>
          </p:nvCxnSpPr>
          <p:spPr>
            <a:xfrm flipH="1">
              <a:off x="5104800" y="5213880"/>
              <a:ext cx="543960" cy="29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" name=""/>
            <p:cNvCxnSpPr/>
            <p:nvPr/>
          </p:nvCxnSpPr>
          <p:spPr>
            <a:xfrm flipH="1">
              <a:off x="5105520" y="5358960"/>
              <a:ext cx="543960" cy="29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" name=""/>
            <p:cNvCxnSpPr/>
            <p:nvPr/>
          </p:nvCxnSpPr>
          <p:spPr>
            <a:xfrm flipH="1">
              <a:off x="5105520" y="5512320"/>
              <a:ext cx="543960" cy="29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" name=""/>
            <p:cNvCxnSpPr/>
            <p:nvPr/>
          </p:nvCxnSpPr>
          <p:spPr>
            <a:xfrm>
              <a:off x="5105880" y="6016320"/>
              <a:ext cx="124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" name=""/>
            <p:cNvCxnSpPr/>
            <p:nvPr/>
          </p:nvCxnSpPr>
          <p:spPr>
            <a:xfrm>
              <a:off x="5105520" y="5213520"/>
              <a:ext cx="1440" cy="80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8" name=""/>
            <p:cNvCxnSpPr/>
            <p:nvPr/>
          </p:nvCxnSpPr>
          <p:spPr>
            <a:xfrm>
              <a:off x="6353640" y="5213520"/>
              <a:ext cx="1440" cy="80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cxnSp>
        <p:nvCxnSpPr>
          <p:cNvPr id="99" name=""/>
          <p:cNvCxnSpPr>
            <a:stCxn id="79" idx="2"/>
            <a:endCxn id="85" idx="0"/>
          </p:cNvCxnSpPr>
          <p:nvPr/>
        </p:nvCxnSpPr>
        <p:spPr>
          <a:xfrm flipH="1" rot="16200000">
            <a:off x="3396240" y="2242800"/>
            <a:ext cx="665640" cy="3993480"/>
          </a:xfrm>
          <a:prstGeom prst="bentConnector3">
            <a:avLst>
              <a:gd name="adj1" fmla="val 4989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6553080" y="3048120"/>
            <a:ext cx="102708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endCxn id="100" idx="1"/>
          </p:cNvCxnSpPr>
          <p:nvPr/>
        </p:nvCxnSpPr>
        <p:spPr>
          <a:xfrm flipH="1" flipV="1" rot="5400000">
            <a:off x="5805720" y="3976920"/>
            <a:ext cx="884880" cy="61020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6629400" y="3352680"/>
            <a:ext cx="8380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K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xane/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419720" y="472428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/>
          <p:nvPr/>
        </p:nvCxnSpPr>
        <p:spPr>
          <a:xfrm flipV="1" rot="16200000">
            <a:off x="6258600" y="2274120"/>
            <a:ext cx="823320" cy="69300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1347840" y="3475080"/>
            <a:ext cx="3855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33400" y="3475080"/>
            <a:ext cx="38448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33400" y="2898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16360" y="601920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phon design peeler centrifu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7400" y="1720800"/>
            <a:ext cx="1415880" cy="25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111" idx="0"/>
          </p:cNvCxnSpPr>
          <p:nvPr/>
        </p:nvCxnSpPr>
        <p:spPr>
          <a:xfrm rot="5400000">
            <a:off x="4798800" y="462600"/>
            <a:ext cx="822960" cy="2329560"/>
          </a:xfrm>
          <a:prstGeom prst="bentConnector4">
            <a:avLst>
              <a:gd name="adj1" fmla="val -36805"/>
              <a:gd name="adj2" fmla="val 577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6858000" y="1447920"/>
            <a:ext cx="102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77120" y="990720"/>
            <a:ext cx="102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po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13440" y="1216080"/>
            <a:ext cx="723960" cy="100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03800" y="1417680"/>
            <a:ext cx="543240" cy="606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0920" y="1519200"/>
            <a:ext cx="99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103440" y="1519200"/>
            <a:ext cx="45252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03800" y="1822320"/>
            <a:ext cx="45252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0920" y="1922400"/>
            <a:ext cx="99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49840" y="1368360"/>
            <a:ext cx="257400" cy="287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51640" y="1770120"/>
            <a:ext cx="257040" cy="287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28680" y="43768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62680" y="34146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160020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05520" y="990720"/>
            <a:ext cx="86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m coming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05520" y="1981080"/>
            <a:ext cx="868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m Coming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270036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1240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2971800"/>
            <a:ext cx="30456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50920" y="2913840"/>
            <a:ext cx="423000" cy="425520"/>
            <a:chOff x="250920" y="2913840"/>
            <a:chExt cx="423000" cy="425520"/>
          </a:xfrm>
        </p:grpSpPr>
        <p:sp>
          <p:nvSpPr>
            <p:cNvPr id="130" name=""/>
            <p:cNvSpPr/>
            <p:nvPr/>
          </p:nvSpPr>
          <p:spPr>
            <a:xfrm flipV="1" rot="14490000">
              <a:off x="304200" y="2971440"/>
              <a:ext cx="316080" cy="30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 rot="9090000">
              <a:off x="315360" y="2984040"/>
              <a:ext cx="263160" cy="22032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5791320" y="47242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4076640"/>
            <a:ext cx="325440" cy="328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4546440"/>
            <a:ext cx="325440" cy="328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78360" y="4229280"/>
            <a:ext cx="325440" cy="328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0" y="2666880"/>
            <a:ext cx="325440" cy="328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91520" y="1562040"/>
            <a:ext cx="325440" cy="328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736560"/>
            <a:ext cx="325440" cy="328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1866960"/>
            <a:ext cx="325440" cy="328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076840" y="4021920"/>
            <a:ext cx="423000" cy="425520"/>
            <a:chOff x="2076840" y="4021920"/>
            <a:chExt cx="423000" cy="425520"/>
          </a:xfrm>
        </p:grpSpPr>
        <p:sp>
          <p:nvSpPr>
            <p:cNvPr id="141" name=""/>
            <p:cNvSpPr/>
            <p:nvPr/>
          </p:nvSpPr>
          <p:spPr>
            <a:xfrm flipV="1" rot="14490000">
              <a:off x="2130120" y="4079520"/>
              <a:ext cx="316080" cy="30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 rot="9090000">
              <a:off x="2141280" y="4092120"/>
              <a:ext cx="263160" cy="22032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911920" y="3615480"/>
            <a:ext cx="422640" cy="425160"/>
            <a:chOff x="5911920" y="3615480"/>
            <a:chExt cx="422640" cy="425160"/>
          </a:xfrm>
        </p:grpSpPr>
        <p:sp>
          <p:nvSpPr>
            <p:cNvPr id="144" name=""/>
            <p:cNvSpPr/>
            <p:nvPr/>
          </p:nvSpPr>
          <p:spPr>
            <a:xfrm flipV="1" rot="14490000">
              <a:off x="5965200" y="3672720"/>
              <a:ext cx="316080" cy="309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 rot="9090000">
              <a:off x="5976000" y="3686040"/>
              <a:ext cx="262800" cy="22032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979640" y="1865520"/>
            <a:ext cx="318960" cy="312480"/>
            <a:chOff x="1979640" y="1865520"/>
            <a:chExt cx="318960" cy="312480"/>
          </a:xfrm>
        </p:grpSpPr>
        <p:sp>
          <p:nvSpPr>
            <p:cNvPr id="147" name=""/>
            <p:cNvSpPr/>
            <p:nvPr/>
          </p:nvSpPr>
          <p:spPr>
            <a:xfrm flipV="1" rot="10770000">
              <a:off x="1980720" y="1866960"/>
              <a:ext cx="316080" cy="30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 rot="5370000">
              <a:off x="1971720" y="1910520"/>
              <a:ext cx="263160" cy="22032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619280" y="2914560"/>
            <a:ext cx="1301760" cy="211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K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mass /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27800" y="1976400"/>
            <a:ext cx="1301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 cross flow filtration device centrifu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28600" y="4087440"/>
            <a:ext cx="1390680" cy="27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49" idx="0"/>
          </p:cNvCxnSpPr>
          <p:nvPr/>
        </p:nvCxnSpPr>
        <p:spPr>
          <a:xfrm flipH="1" flipV="1" rot="5400000">
            <a:off x="3124800" y="1706760"/>
            <a:ext cx="353160" cy="20624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/>
          <p:nvPr/>
        </p:nvCxnSpPr>
        <p:spPr>
          <a:xfrm flipH="1" flipV="1" rot="5400000">
            <a:off x="5838480" y="424800"/>
            <a:ext cx="352800" cy="228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55" idx="2"/>
          </p:cNvCxnSpPr>
          <p:nvPr/>
        </p:nvCxnSpPr>
        <p:spPr>
          <a:xfrm flipH="1" rot="16200000">
            <a:off x="5479920" y="2296080"/>
            <a:ext cx="1051920" cy="2297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7155000" y="3500280"/>
            <a:ext cx="868320" cy="129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89880" y="4791240"/>
            <a:ext cx="0" cy="1290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264440" y="3970440"/>
            <a:ext cx="86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55000" y="685800"/>
            <a:ext cx="977760" cy="140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155000" y="1155600"/>
            <a:ext cx="119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water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914400" y="3936960"/>
            <a:ext cx="260280" cy="281160"/>
            <a:chOff x="914400" y="3936960"/>
            <a:chExt cx="260280" cy="281160"/>
          </a:xfrm>
        </p:grpSpPr>
        <p:sp>
          <p:nvSpPr>
            <p:cNvPr id="162" name=""/>
            <p:cNvSpPr/>
            <p:nvPr/>
          </p:nvSpPr>
          <p:spPr>
            <a:xfrm>
              <a:off x="914400" y="3936960"/>
              <a:ext cx="260280" cy="28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5400000">
              <a:off x="954360" y="3985200"/>
              <a:ext cx="239040" cy="181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463920" y="2444760"/>
            <a:ext cx="260280" cy="280800"/>
            <a:chOff x="3463920" y="2444760"/>
            <a:chExt cx="260280" cy="280800"/>
          </a:xfrm>
        </p:grpSpPr>
        <p:sp>
          <p:nvSpPr>
            <p:cNvPr id="165" name=""/>
            <p:cNvSpPr/>
            <p:nvPr/>
          </p:nvSpPr>
          <p:spPr>
            <a:xfrm>
              <a:off x="3463920" y="2444760"/>
              <a:ext cx="260280" cy="280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5400000">
              <a:off x="3503880" y="2492640"/>
              <a:ext cx="238680" cy="181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118200" y="3852720"/>
            <a:ext cx="260280" cy="281160"/>
            <a:chOff x="6118200" y="3852720"/>
            <a:chExt cx="260280" cy="281160"/>
          </a:xfrm>
        </p:grpSpPr>
        <p:sp>
          <p:nvSpPr>
            <p:cNvPr id="168" name=""/>
            <p:cNvSpPr/>
            <p:nvPr/>
          </p:nvSpPr>
          <p:spPr>
            <a:xfrm>
              <a:off x="6118200" y="3852720"/>
              <a:ext cx="260280" cy="28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00000">
              <a:off x="6158160" y="3900960"/>
              <a:ext cx="239040" cy="181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070680" y="1271520"/>
            <a:ext cx="258840" cy="281160"/>
            <a:chOff x="6070680" y="1271520"/>
            <a:chExt cx="258840" cy="281160"/>
          </a:xfrm>
        </p:grpSpPr>
        <p:sp>
          <p:nvSpPr>
            <p:cNvPr id="171" name=""/>
            <p:cNvSpPr/>
            <p:nvPr/>
          </p:nvSpPr>
          <p:spPr>
            <a:xfrm>
              <a:off x="6070680" y="1271520"/>
              <a:ext cx="258840" cy="28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5400000">
              <a:off x="6109200" y="1320120"/>
              <a:ext cx="239040" cy="18036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331520" y="1741320"/>
            <a:ext cx="1058400" cy="1178280"/>
            <a:chOff x="4331520" y="1741320"/>
            <a:chExt cx="1058400" cy="1178280"/>
          </a:xfrm>
        </p:grpSpPr>
        <p:sp>
          <p:nvSpPr>
            <p:cNvPr id="155" name=""/>
            <p:cNvSpPr/>
            <p:nvPr/>
          </p:nvSpPr>
          <p:spPr>
            <a:xfrm>
              <a:off x="4791960" y="1741320"/>
              <a:ext cx="130320" cy="117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4" name=""/>
            <p:cNvCxnSpPr/>
            <p:nvPr/>
          </p:nvCxnSpPr>
          <p:spPr>
            <a:xfrm flipH="1">
              <a:off x="4331520" y="2022120"/>
              <a:ext cx="460440" cy="243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5" name=""/>
            <p:cNvCxnSpPr/>
            <p:nvPr/>
          </p:nvCxnSpPr>
          <p:spPr>
            <a:xfrm flipH="1" flipV="1">
              <a:off x="4921560" y="2035440"/>
              <a:ext cx="467640" cy="230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6" name=""/>
            <p:cNvCxnSpPr/>
            <p:nvPr/>
          </p:nvCxnSpPr>
          <p:spPr>
            <a:xfrm flipH="1" flipV="1">
              <a:off x="4921560" y="2152440"/>
              <a:ext cx="467640" cy="230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7" name=""/>
            <p:cNvCxnSpPr/>
            <p:nvPr/>
          </p:nvCxnSpPr>
          <p:spPr>
            <a:xfrm flipH="1" flipV="1">
              <a:off x="4921560" y="2277720"/>
              <a:ext cx="467640" cy="230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8" name=""/>
            <p:cNvCxnSpPr/>
            <p:nvPr/>
          </p:nvCxnSpPr>
          <p:spPr>
            <a:xfrm flipH="1" flipV="1">
              <a:off x="4921560" y="2382120"/>
              <a:ext cx="467640" cy="230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9" name=""/>
            <p:cNvCxnSpPr/>
            <p:nvPr/>
          </p:nvCxnSpPr>
          <p:spPr>
            <a:xfrm flipH="1" flipV="1">
              <a:off x="4921560" y="2507040"/>
              <a:ext cx="467640" cy="230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0" name=""/>
            <p:cNvCxnSpPr/>
            <p:nvPr/>
          </p:nvCxnSpPr>
          <p:spPr>
            <a:xfrm flipH="1">
              <a:off x="4331520" y="2139480"/>
              <a:ext cx="460440" cy="243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1" name=""/>
            <p:cNvCxnSpPr/>
            <p:nvPr/>
          </p:nvCxnSpPr>
          <p:spPr>
            <a:xfrm flipH="1">
              <a:off x="4331520" y="2264400"/>
              <a:ext cx="460440" cy="243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"/>
            <p:cNvCxnSpPr/>
            <p:nvPr/>
          </p:nvCxnSpPr>
          <p:spPr>
            <a:xfrm flipH="1">
              <a:off x="4332240" y="2382480"/>
              <a:ext cx="460440" cy="243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"/>
            <p:cNvCxnSpPr/>
            <p:nvPr/>
          </p:nvCxnSpPr>
          <p:spPr>
            <a:xfrm flipH="1">
              <a:off x="4332240" y="2507400"/>
              <a:ext cx="460440" cy="243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"/>
            <p:cNvCxnSpPr/>
            <p:nvPr/>
          </p:nvCxnSpPr>
          <p:spPr>
            <a:xfrm>
              <a:off x="4332600" y="2918880"/>
              <a:ext cx="1057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"/>
            <p:cNvCxnSpPr/>
            <p:nvPr/>
          </p:nvCxnSpPr>
          <p:spPr>
            <a:xfrm>
              <a:off x="4332240" y="2264400"/>
              <a:ext cx="1440" cy="65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"/>
            <p:cNvCxnSpPr/>
            <p:nvPr/>
          </p:nvCxnSpPr>
          <p:spPr>
            <a:xfrm>
              <a:off x="5388840" y="2264400"/>
              <a:ext cx="1440" cy="65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87" name=""/>
          <p:cNvSpPr/>
          <p:nvPr/>
        </p:nvSpPr>
        <p:spPr>
          <a:xfrm>
            <a:off x="7010280" y="6095880"/>
            <a:ext cx="151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Bio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67120" y="1038240"/>
            <a:ext cx="151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14400" y="36576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9000" y="2133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9907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5360" y="3949560"/>
            <a:ext cx="325440" cy="328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2387520"/>
            <a:ext cx="325440" cy="328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1219320"/>
            <a:ext cx="325440" cy="328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24400" y="3805200"/>
            <a:ext cx="325440" cy="328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419960" y="5105520"/>
            <a:ext cx="325440" cy="328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18:09:58Z</dcterms:created>
  <dc:creator>(</dc:creator>
  <dc:description/>
  <dc:language>en-US</dc:language>
  <cp:lastModifiedBy>xplabpc</cp:lastModifiedBy>
  <dcterms:modified xsi:type="dcterms:W3CDTF">2010-03-03T22:14:54Z</dcterms:modified>
  <cp:revision>13</cp:revision>
  <dc:subject/>
  <dc:title>Slide 1</dc:title>
</cp:coreProperties>
</file>